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2108-2F1D-43B7-87BD-037982EF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2C1-7447-42F8-9BF9-5C2AA675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06D-1CFA-4D87-ACA7-8CFDAB38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1D4-20EA-4675-9BB2-EF8333ED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B84-66AF-4ABA-9100-BB4384C6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1F78-FF39-416C-A8B6-23305FE9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C3A-BD71-4A83-9F2B-B320FC83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37C-BD77-4F9B-A754-D683A173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563-DF7F-4CF8-88B7-E681E083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96CC-2028-4A91-BC77-97DC1414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F53-AF49-4011-8C0D-23D9D381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F57-A2AC-4771-BF70-84F3FF8E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37DB-0339-4464-A2EE-5ECB4C027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1196640"/>
            <a:ext cx="54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09T20:40:13Z</dcterms:modified>
  <cp:revision>38</cp:revision>
  <dc:subject/>
  <dc:title>Texto</dc:title>
</cp:coreProperties>
</file>